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cOS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2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75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7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2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7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9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7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4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9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9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0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1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" fill="hold"/>
                                        <p:tgtEl>
                                          <p:spTgt spid="1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4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" fill="hold"/>
                                        <p:tgtEl>
                                          <p:spTgt spid="1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75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200"/>
                            </p:stCondLst>
                            <p:childTnLst>
                              <p:par>
                                <p:cTn id="45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700"/>
                            </p:stCondLst>
                            <p:childTnLst>
                              <p:par>
                                <p:cTn id="4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2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1" fill="hold"/>
                                        <p:tgtEl>
                                          <p:spTgt spid="1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2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1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" fill="hold"/>
                                        <p:tgtEl>
                                          <p:spTgt spid="1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7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0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" fill="hold"/>
                                        <p:tgtEl>
                                          <p:spTgt spid="1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2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" fill="hold"/>
                                        <p:tgtEl>
                                          <p:spTgt spid="1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7" dur="1" fill="hold"/>
                                        <p:tgtEl>
                                          <p:spTgt spid="1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1" fill="hold"/>
                                        <p:tgtEl>
                                          <p:spTgt spid="18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1" fill="hold"/>
                                        <p:tgtEl>
                                          <p:spTgt spid="1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3" dur="1" fill="hold"/>
                                        <p:tgtEl>
                                          <p:spTgt spid="19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2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9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00"/>
                            </p:stCondLst>
                            <p:childTnLst>
                              <p:par>
                                <p:cTn id="62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8" dur="1" fill="hold"/>
                                        <p:tgtEl>
                                          <p:spTgt spid="19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3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94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95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2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03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0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11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9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20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28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6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37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45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53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0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061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" fill="hold"/>
                                        <p:tgtEl>
                                          <p:spTgt spid="19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0"/>
                            </p:stCondLst>
                            <p:childTnLst>
                              <p:par>
                                <p:cTn id="69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2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7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... ...</cp:lastModifiedBy>
  <dcterms:modified xsi:type="dcterms:W3CDTF">2010-08-04T04:17:36Z</dcterms:modified>
  <cp:revision>19</cp:revision>
  <dc:subject/>
  <dc:title>No Slide Title</dc:title>
</cp:coreProperties>
</file>